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8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laser.wav" ContentType="audio/x-wav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5E7-0BE9-41CD-B4EF-E7CA0E77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DFD-C2F2-4B96-BC19-5F629E18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BA63C-B8E4-4322-A28C-B418DC55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55ADE-7452-4FBF-8B5E-AF54E887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63FC9-F769-4D78-8AF4-B111160D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B0050-7CEF-4EFC-ABA1-CED641B3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132D3-5C43-4A11-BFE4-8A48858C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25175-6B40-414C-9886-E3163E55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AE594-260D-4739-9E13-A76EF449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7BA73-C183-4BDD-964C-95E8DF03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14B57-4845-4663-A5E7-7B58E51B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F3B70-0D89-490A-9E0D-BFF869B8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4B8-F0FD-4382-BC87-AF74034C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96B43-113D-40FD-8C39-6BA28210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BD6FA-50A0-47F8-BC27-9B888695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3D605-E75C-46D4-ABA4-A0A34DA7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9561F-3527-45F3-B0C4-CCFBDC3C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77FC0-F63C-4FC6-8DBF-4B721AC9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470CE-54B8-47AD-8286-88B464BF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D926F-882D-48E0-BD94-32578048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5E7CE-39CD-4BB6-AFFD-B243D928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76798-7AE7-4564-B14E-E8AFC521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E2CC0-FB57-419F-9627-07DAF5DC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A3B-CD2E-4B7F-BD78-BC80300B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FE53D-1391-4FEB-A90D-D9D7D828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98C19-5DFC-45E9-84AC-991C764B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421E6-5F4A-40B5-92D7-789F0D5D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6DA25-86AB-46BA-B774-6A8E3715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D4408-34F7-4DBE-ABF9-13B11865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0C9B3-C184-4DCF-80E6-5F6AC848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3AE88-F302-4997-BC8E-F66FFE43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3A77D-F465-4A40-B6B6-4ED81EFE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70861-8624-4F16-9B74-269260A3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1FCF5-D436-4C25-8B07-8EFC4341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9535-42C8-40F4-A6DB-BEE60987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A1E9D-B0C8-43C6-89AB-59E91CD0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F6105-7D56-4DB4-8DC5-C6B5DF75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0BAF4-5C0C-4643-BDD0-190DD721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0C3BE-200B-4545-9ED6-48283023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03222-43FC-480A-AD3B-7640E9EA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48454-BCD3-4265-8159-CF42CEE5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F3384-786E-429E-A45B-FAF97E39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420ED-2D02-4D58-8238-DCC0B1A5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9B753-0565-4AD3-83B4-F7211CEE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2559D-1691-4FB5-9F4B-04C9E794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F8DB-BE71-41BC-8D04-4EEE87AF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F5932-599E-4BD9-BF73-4E6C7BE0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BD212-215C-451B-9A6D-7AA2915F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CD706-922E-4178-9F31-89D4CB2B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9733A-E424-4A2E-B7B5-49DA1448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5B726-00AB-4614-82D8-DA5DE45F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540B4-9561-4545-85BF-CEBEFFB8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37C2A-20EC-4E0B-B2A8-1ED95C75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75AE7F-BC89-452E-8004-CA49CEF9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C756A-5947-4633-B2FD-3EDEF40A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A222E-426C-4585-85B7-EF1889E7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3BC6-BC2D-414A-9B56-DCF826F0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3B4D0-E769-410F-A0F8-EF8D37E0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9329F-28B4-473C-B373-A55CD37D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C6928-9B69-498B-A523-F25974CD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7BDE1-6F78-4901-923F-42ADC6CD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7A5F8-51C0-4240-99BC-839C5E19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E1695-B12A-4533-A095-2BDF8ACA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95E02-A065-42E0-B0A2-757FCCEE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C1A62-D0BB-4B70-B5A9-454DD567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C1829B-4D2D-4B95-A940-7F90D8A3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D3ECA-252F-4250-B010-8AED9B05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1F8D-AD9A-4CD5-A80E-80A8872D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55DC92-25C6-4487-9A26-4EF1034D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9BD54-6254-40E2-B4B5-983E6D6E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03B44D-58CB-4144-A789-2A716909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C3C83-8496-41F7-8232-E3005480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E8E4E-BDE4-41A2-B29F-3D399EE0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8A23E-AFB5-42F9-904D-068F266B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371826-BE27-4AF9-8BA0-1D49BDE0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F447E-BCD3-43C1-BA21-77F58D04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CEE97-E8BB-4728-9A65-B6F77EDA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E2E97D-7F49-44AA-8037-231C6515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8D1C-9281-4EE6-ACD1-8969E7DE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549A5-5D74-426E-ACBA-E5D7D819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167E3D-D911-44B4-AFF6-D7794E13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5ED966-2BA6-4249-9426-EEC376C1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44A84F-BBDB-4C31-9181-1343BA17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9D770E-A46A-4065-8440-254502E1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F29271-A685-4FD1-894D-D492BFCF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0D5C4E-260A-4E77-9C29-A5791FE6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BFC5E-899E-4156-A2C0-B56F023C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ADCFC-2E65-439B-8DD8-BFF078FF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61EFEB-1900-4300-A5D4-BB5944C2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80E3-759C-436F-97CA-43B60284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D677BB-A1B2-4C19-8449-6C786B18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98C9C9-1FE4-412A-B586-AAF433F2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4CC25C-F55D-4F8E-8D15-B35AAD3A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E81628-F5CA-4AD0-97DF-F57E8F82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42C543-ADB6-46D9-92E3-8F7421F5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F8019-D94E-4737-B2D4-9F4AB5B0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D312E3-F873-4D2A-8E61-23289F55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FDF57B-2BC2-424B-8555-99B72421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E06D4E-3492-426C-8B25-7698AC69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F45799-4423-4F89-B92E-7C5E2ECA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9664-C77D-4FE4-B6AB-8AC90B64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2BCD03-70E6-4FE4-A2E2-3095B38C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E9EE08-E797-42D6-8000-37519833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6A9743-70D4-4EEA-A97E-E4FCDC2B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B4B-ED14-4DCF-81CD-9527BE63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0200-8BD0-4BA6-9CB3-B6BB8FA7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020F-23B0-4A2A-992A-2FB95059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9FA9-C4ED-4188-BF67-580D0DED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F2CC-6F6D-469A-870F-F6342524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FD69-3133-4B65-8ECE-0CBC0AB1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F7EC8-C561-46CA-807E-490946DB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8EEAA-5928-4964-B68C-4EEB342E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35D6A-ABA8-408C-B600-1F26FDB6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C866E-682C-44DE-B7B3-A6BD3191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8C064B-21CB-4740-8A0C-9152D39D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A03-54F5-4125-BB74-8890FA23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B03E0-05B3-4927-AC2C-9C12D579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2B5F6-B8B3-4703-BE63-60277E9C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8F245-11D0-486E-B08D-C659E6E0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E0234-43FA-4960-9E81-62B206B1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214D6-1D26-4D1D-B86C-49316576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93058-2C22-4ADF-8C73-40A14C41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87ADE-2332-49AD-9B19-932F7F01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740955-3D0E-4CB2-BFCB-B7D58F5D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3B60E4-9C87-4C24-9E91-428BFAC7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C4202-0BEC-4983-8EFC-8BD953C8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8F2-877E-46D6-B2AE-30B40B13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D13EB1-BFA7-4985-B059-13391C08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3B8F7F-3AF2-47C4-B47E-3A59E586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C934F1-6B70-4BC7-B67E-DAE679E3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3AEE38-B77D-45C9-8E89-44EBE33B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F3BEE8-1644-4B21-AFDF-A6035C63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A22A8A-559A-48A3-BDA0-8C3D81EF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2B5EEA-45E6-4779-9AF1-8A3D0446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4A73B9-C354-4B68-B58A-961DD844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4A733-EEF3-4E85-9526-5732FF31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53FB7-5D9B-41C9-B509-714471FC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943-6728-46E7-A042-044FAF02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7AA18-4A2C-4A48-B07C-B335DCDE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6BBEA-AD77-4C79-8353-9643007F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63656-8057-4E53-BE15-95D0AEEB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47898-88F6-4DF2-AD78-1D9E3E5B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E2EEA-3CAB-46A8-9963-5F2D0F59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F7C99-8BEC-4BCA-9748-B318EEB1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ABD65-9485-452E-B0C7-55A2E5FF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A5700-2A0C-4473-B192-A4D2EC3C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29A0A-C34F-449C-8061-34106A87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4C810-2AC0-4EE1-B1A0-53A050C7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E20-BF58-4DE2-9C4A-D88D5D95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A2C73-FA08-42CD-8E40-48889C70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31530-2951-430D-8738-0C1CBE8D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688E8-DE70-469F-9FE9-D2FEA08A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A10F7-6149-4BF6-BA78-8A0ED486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5C5A5-DA28-4298-9E77-8CA8CF2A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4D5BA-84C0-436E-BA20-6B9545CA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D9A72-5D82-4819-87BF-22B425BE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6BCD1-DE53-47A3-AD0D-B8B0117A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E1DB8-EAEB-4CD8-B7A6-1D8CB6E0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EE4EC-7ED3-422B-957A-80FAD460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9D2-A676-4215-8072-2330B1E7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3B06B-12EE-4017-89DF-1F8A2201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E7335-902E-4F24-B249-398E18DE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A6B2B-BBCC-4296-94F3-1BEBD8D0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097D6-3553-434B-BE7F-E5B82410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20BF2-034E-4A20-91DA-E3FF7006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12785-EA18-42F9-B09B-24CE5B8B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7D03D-3277-4CBB-8978-D9DBBC30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4206A-5F29-434E-89E2-103030BA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6C71A-9500-4955-896C-32100814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28E76-512C-4997-8D1B-CB012BF5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281-9561-4BCC-A4D5-1635E347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63937-4492-4745-B658-D2BA2B2E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2B7FE-BD7F-4273-BA08-84A927A3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B8F07-C05F-48E5-90CC-2DF75598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290BE-569A-4643-9DF3-4B9D72D6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F5FB0-AE64-45A2-85DE-2F40F5F9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A803B-6357-4072-B4AC-0C684CDA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C6534-42BB-44F8-B976-68CAA146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19BF7-D68D-4936-AAFC-422575A2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B94BD-4404-442F-866B-41A050BD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8EAD9-1A7A-4500-BD70-F9B7456F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43D-7527-4850-BACA-CEB23E4E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B6FA2-9B9F-4122-8FF0-B64A00AB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13761-F8DA-45E9-8ECB-7105BE16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CF1F5-13D7-4072-9CC2-06C1E61F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7AC8D-1693-4432-A5DC-D58D3FEC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2E70C-B68A-4FC7-98C0-E581E9FA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3E393-3605-4388-8C13-52048EDE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07702-B114-452B-80E6-3EF778F8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F81A7-2487-4AEA-AC6F-14A2F5FB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17F9B-E8BA-4C66-BCB9-955E542D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25C2E-95EB-453B-9720-662DB51D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5F00-EADF-41F0-8C55-EC2493F6C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D8BD-F488-413E-BB78-37602B48F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A7D3-E7D3-43DB-B26D-7493E69FB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4F34-2546-4D94-B04E-A7DC0F10E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7389-6342-4009-9407-3D0A9FAB7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41D0-CF6E-4D41-8195-70C5B9F04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1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绿色圃中小学教育网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|http://www.lspj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590F-FA23-42D2-8E67-94A0146D7B4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-105120" y="1311120"/>
            <a:ext cx="9350640" cy="5633280"/>
            <a:chOff x="-105120" y="1311120"/>
            <a:chExt cx="9350640" cy="5633280"/>
          </a:xfrm>
        </p:grpSpPr>
        <p:sp>
          <p:nvSpPr>
            <p:cNvPr id="876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17"/>
            <p:cNvSpPr/>
            <p:nvPr/>
          </p:nvSpPr>
          <p:spPr>
            <a:xfrm flipV="1" rot="18603600">
              <a:off x="642924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18"/>
            <p:cNvSpPr/>
            <p:nvPr/>
          </p:nvSpPr>
          <p:spPr>
            <a:xfrm flipH="1" flipV="1" rot="18391200">
              <a:off x="8519040" y="6616800"/>
              <a:ext cx="795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|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BD09-1DC2-4AA4-97B1-CBC445D9AE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908C-5688-4EAA-BC6D-F1CD81474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绿色圃中小学教育网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|http://www.lspj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F72A-F0C3-4016-8F3B-7BC28B85B9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103320" y="1308240"/>
            <a:ext cx="9350640" cy="5633280"/>
            <a:chOff x="-103320" y="1308240"/>
            <a:chExt cx="9350640" cy="5633280"/>
          </a:xfrm>
        </p:grpSpPr>
        <p:sp>
          <p:nvSpPr>
            <p:cNvPr id="146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 flipV="1" rot="18603600">
              <a:off x="6431040" y="556020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 flipH="1" flipV="1" rot="18391200">
              <a:off x="8520840" y="6613920"/>
              <a:ext cx="795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3C10-741E-4209-BD5A-99E06D971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3B98-134C-4877-8A41-8380F008F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9C41-A9DE-4A2A-A0ED-0F171EF55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89C2-12E1-4A04-8B42-33E7B7BAB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4A80-D2B6-48F4-BC8F-FB96F9BE0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A991-12BC-4782-A865-BFE7E805F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hyperlink" Target="file:///tmp/home/.config/libreoffice/4/user/gallery/CIMG0003.WAV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hyperlink" Target="file:///tmp/home/.config/libreoffice/4/user/gallery/CIMG0006.WAV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IMG0003.WAV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IMG0006.WAV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3.xml"/><Relationship Id="rId5" Type="http://schemas.openxmlformats.org/officeDocument/2006/relationships/hyperlink" Target="file:///tmp/home/.config/libreoffice/4/user/gallery/CIMG0007.WAV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5.xml"/><Relationship Id="rId7" Type="http://schemas.openxmlformats.org/officeDocument/2006/relationships/slide" Target="slide20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2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hyperlink" Target="C:\Documents and Settings\All Users\Documents\&#21494;&#40511;&#20873;&#25991;&#20214;&#24211;\&#21494;&#40511;&#20873;&#25991;&#20214;&#24211;&#20013;&#36716;&#31449;\Microsoft PowerPoint&#28436;&#31034;&#25991;&#31295;.ppt &#24211;\&#35838;&#20214;\&#27721;&#35821;&#25340;&#38899;\iuv&#32451;&#20064;.doc" TargetMode="External"/><Relationship Id="rId7" Type="http://schemas.openxmlformats.org/officeDocument/2006/relationships/image" Target="../media/image23.pn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24.pn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hyperlink" Target="file:///tmp/home/.config/libreoffice/4/user/gallery/CIMG0007.WAV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file:///tmp/home/.config/libreoffice/4/user/gallery/CIMG0003.WAV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file:///tmp/home/.config/libreoffice/4/user/gallery/CIMG0006.WAV" TargetMode="External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hyperlink" Target="file:///tmp/home/.config/libreoffice/4/user/gallery/CIMG0003.WAV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hyperlink" Target="file:///tmp/home/.config/libreoffice/4/user/gallery/CIMG0006.WAV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hyperlink" Target="file:///tmp/home/.config/libreoffice/4/user/gallery/CIMG0007.WAV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3" name="Picture 7" descr="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4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76DA-A15B-484A-908F-37E8FBC8C9D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矩形 18439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4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39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7"/>
          <p:cNvSpPr/>
          <p:nvPr/>
        </p:nvSpPr>
        <p:spPr>
          <a:xfrm>
            <a:off x="380880" y="9907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8"/>
          <p:cNvSpPr/>
          <p:nvPr/>
        </p:nvSpPr>
        <p:spPr>
          <a:xfrm>
            <a:off x="380880" y="28195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9"/>
          <p:cNvSpPr/>
          <p:nvPr/>
        </p:nvSpPr>
        <p:spPr>
          <a:xfrm>
            <a:off x="380880" y="60958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WordArt 10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44" name="Line 11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2"/>
          <p:cNvSpPr/>
          <p:nvPr/>
        </p:nvSpPr>
        <p:spPr>
          <a:xfrm>
            <a:off x="5029200" y="2819520"/>
            <a:ext cx="0" cy="15238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3"/>
          <p:cNvSpPr/>
          <p:nvPr/>
        </p:nvSpPr>
        <p:spPr>
          <a:xfrm>
            <a:off x="4114800" y="2590920"/>
            <a:ext cx="380880" cy="12952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5"/>
          <p:cNvSpPr/>
          <p:nvPr/>
        </p:nvSpPr>
        <p:spPr>
          <a:xfrm flipV="1">
            <a:off x="4495680" y="2742840"/>
            <a:ext cx="228600" cy="11430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16"/>
          <p:cNvSpPr/>
          <p:nvPr/>
        </p:nvSpPr>
        <p:spPr>
          <a:xfrm>
            <a:off x="3276720" y="30481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7"/>
          <p:cNvSpPr/>
          <p:nvPr/>
        </p:nvSpPr>
        <p:spPr>
          <a:xfrm>
            <a:off x="5257800" y="4114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20"/>
          <p:cNvSpPr/>
          <p:nvPr/>
        </p:nvSpPr>
        <p:spPr>
          <a:xfrm>
            <a:off x="38098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21"/>
          <p:cNvSpPr/>
          <p:nvPr/>
        </p:nvSpPr>
        <p:spPr>
          <a:xfrm>
            <a:off x="47242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22"/>
          <p:cNvSpPr/>
          <p:nvPr/>
        </p:nvSpPr>
        <p:spPr>
          <a:xfrm>
            <a:off x="3429000" y="14479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23"/>
          <p:cNvSpPr/>
          <p:nvPr/>
        </p:nvSpPr>
        <p:spPr>
          <a:xfrm>
            <a:off x="4876920" y="1676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A5F8-2C51-4BB5-A62A-DD664EC29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Picture 12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57" name="WordArt 13"/>
          <p:cNvSpPr txBox="1"/>
          <p:nvPr/>
        </p:nvSpPr>
        <p:spPr>
          <a:xfrm>
            <a:off x="5410080" y="990720"/>
            <a:ext cx="18288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y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58" name="Picture 14" descr="《汉语拼音 2》y插图"/>
          <p:cNvPicPr/>
          <p:nvPr/>
        </p:nvPicPr>
        <p:blipFill>
          <a:blip r:embed="rId3"/>
          <a:stretch/>
        </p:blipFill>
        <p:spPr>
          <a:xfrm>
            <a:off x="1219320" y="106668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1259" name="Text Box 17"/>
          <p:cNvSpPr/>
          <p:nvPr/>
        </p:nvSpPr>
        <p:spPr>
          <a:xfrm>
            <a:off x="4343400" y="266688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声母（韵母＋声母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为了区分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于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让我们叫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大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“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(y)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”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吧！自然，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小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“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（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）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”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WordArt 18"/>
          <p:cNvSpPr txBox="1"/>
          <p:nvPr/>
        </p:nvSpPr>
        <p:spPr>
          <a:xfrm>
            <a:off x="990720" y="3886200"/>
            <a:ext cx="34290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i</a:t>
            </a: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61" name="Picture 19" descr="c80e42ee4c9091d5b3fb95a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91520" y="152388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62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DB68-EC6A-478A-9833-B63869096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4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65" name="Line 5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6"/>
          <p:cNvSpPr/>
          <p:nvPr/>
        </p:nvSpPr>
        <p:spPr>
          <a:xfrm>
            <a:off x="380880" y="9907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7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8"/>
          <p:cNvSpPr/>
          <p:nvPr/>
        </p:nvSpPr>
        <p:spPr>
          <a:xfrm>
            <a:off x="380880" y="60958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9"/>
          <p:cNvSpPr/>
          <p:nvPr/>
        </p:nvSpPr>
        <p:spPr>
          <a:xfrm rot="19536000">
            <a:off x="2414520" y="2701800"/>
            <a:ext cx="45720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AutoShape 10"/>
          <p:cNvSpPr/>
          <p:nvPr/>
        </p:nvSpPr>
        <p:spPr>
          <a:xfrm rot="10800000">
            <a:off x="1828800" y="2742840"/>
            <a:ext cx="533520" cy="76212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11"/>
          <p:cNvSpPr/>
          <p:nvPr/>
        </p:nvSpPr>
        <p:spPr>
          <a:xfrm rot="1660800">
            <a:off x="2968200" y="2665080"/>
            <a:ext cx="457200" cy="321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AutoShape 12"/>
          <p:cNvSpPr/>
          <p:nvPr/>
        </p:nvSpPr>
        <p:spPr>
          <a:xfrm rot="12758400">
            <a:off x="3733560" y="2743200"/>
            <a:ext cx="380880" cy="3808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13"/>
          <p:cNvSpPr/>
          <p:nvPr/>
        </p:nvSpPr>
        <p:spPr>
          <a:xfrm rot="1444200">
            <a:off x="3660840" y="2723760"/>
            <a:ext cx="3808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14"/>
          <p:cNvSpPr/>
          <p:nvPr/>
        </p:nvSpPr>
        <p:spPr>
          <a:xfrm>
            <a:off x="762120" y="4952880"/>
            <a:ext cx="129528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WordArt 16"/>
          <p:cNvSpPr txBox="1"/>
          <p:nvPr/>
        </p:nvSpPr>
        <p:spPr>
          <a:xfrm>
            <a:off x="990720" y="5181480"/>
            <a:ext cx="838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碰线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6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712B-B3F8-4B1D-81E3-FC9A486F2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8" name="Picture 6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7" descr="《汉语拼音 2》w插图"/>
          <p:cNvPicPr/>
          <p:nvPr/>
        </p:nvPicPr>
        <p:blipFill>
          <a:blip r:embed="rId3"/>
          <a:stretch/>
        </p:blipFill>
        <p:spPr>
          <a:xfrm>
            <a:off x="380880" y="609480"/>
            <a:ext cx="4267440" cy="3048120"/>
          </a:xfrm>
          <a:prstGeom prst="rect">
            <a:avLst/>
          </a:prstGeom>
          <a:ln w="0">
            <a:noFill/>
          </a:ln>
        </p:spPr>
      </p:pic>
      <p:sp>
        <p:nvSpPr>
          <p:cNvPr id="1280" name="WordArt 8"/>
          <p:cNvSpPr txBox="1"/>
          <p:nvPr/>
        </p:nvSpPr>
        <p:spPr>
          <a:xfrm>
            <a:off x="762120" y="4419720"/>
            <a:ext cx="34290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u</a:t>
            </a:r>
            <a:r>
              <a:rPr b="0" lang="zh-CN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1" name="Text Box 9"/>
          <p:cNvSpPr/>
          <p:nvPr/>
        </p:nvSpPr>
        <p:spPr>
          <a:xfrm>
            <a:off x="4191120" y="281952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幼圆"/>
                <a:ea typeface="幼圆"/>
              </a:rPr>
              <a:t>        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这是个声母（韵母＋声母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=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一个字的读音）为了区分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于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w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让我们叫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w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大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幼圆"/>
              </a:rPr>
              <a:t>“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(w)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幼圆"/>
              </a:rPr>
              <a:t>”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吧！自然，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=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小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幼圆"/>
              </a:rPr>
              <a:t>“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(w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）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幼圆"/>
              </a:rPr>
              <a:t>”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WordArt 10"/>
          <p:cNvSpPr txBox="1"/>
          <p:nvPr/>
        </p:nvSpPr>
        <p:spPr>
          <a:xfrm>
            <a:off x="5410080" y="990720"/>
            <a:ext cx="18288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w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83" name="Picture 11" descr="c80e42ee4c9091d5b3fb95a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96080" y="160020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84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BB3E-7111-435C-BC4D-522D7620A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6" name="Picture 4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87" name="Line 5"/>
          <p:cNvSpPr/>
          <p:nvPr/>
        </p:nvSpPr>
        <p:spPr>
          <a:xfrm>
            <a:off x="380880" y="10666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7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8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WordArt 9"/>
          <p:cNvSpPr txBox="1"/>
          <p:nvPr/>
        </p:nvSpPr>
        <p:spPr>
          <a:xfrm>
            <a:off x="2971800" y="2743200"/>
            <a:ext cx="2133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292" name="Line 13"/>
          <p:cNvSpPr/>
          <p:nvPr/>
        </p:nvSpPr>
        <p:spPr>
          <a:xfrm>
            <a:off x="2590920" y="2743200"/>
            <a:ext cx="457200" cy="15238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5"/>
          <p:cNvSpPr/>
          <p:nvPr/>
        </p:nvSpPr>
        <p:spPr>
          <a:xfrm flipV="1">
            <a:off x="3657600" y="3885840"/>
            <a:ext cx="304920" cy="121932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6"/>
          <p:cNvSpPr/>
          <p:nvPr/>
        </p:nvSpPr>
        <p:spPr>
          <a:xfrm>
            <a:off x="4038480" y="3657600"/>
            <a:ext cx="228600" cy="12952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7"/>
          <p:cNvSpPr/>
          <p:nvPr/>
        </p:nvSpPr>
        <p:spPr>
          <a:xfrm flipV="1">
            <a:off x="4952880" y="2742840"/>
            <a:ext cx="381240" cy="1600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18"/>
          <p:cNvSpPr/>
          <p:nvPr/>
        </p:nvSpPr>
        <p:spPr>
          <a:xfrm>
            <a:off x="3505320" y="19810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9"/>
          <p:cNvSpPr/>
          <p:nvPr/>
        </p:nvSpPr>
        <p:spPr>
          <a:xfrm>
            <a:off x="4343400" y="434340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20"/>
          <p:cNvSpPr/>
          <p:nvPr/>
        </p:nvSpPr>
        <p:spPr>
          <a:xfrm>
            <a:off x="2133720" y="32767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1"/>
          <p:cNvSpPr/>
          <p:nvPr/>
        </p:nvSpPr>
        <p:spPr>
          <a:xfrm>
            <a:off x="3200400" y="4343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2"/>
          <p:cNvSpPr/>
          <p:nvPr/>
        </p:nvSpPr>
        <p:spPr>
          <a:xfrm>
            <a:off x="5410080" y="3429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灯片编号占位符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3E92-0CAE-4E22-BA63-B3D0F1950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页脚占位符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3" name="Picture 4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304" name="WordArt 5"/>
          <p:cNvSpPr txBox="1"/>
          <p:nvPr/>
        </p:nvSpPr>
        <p:spPr>
          <a:xfrm>
            <a:off x="990720" y="762120"/>
            <a:ext cx="73152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yi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05" name="WordArt 6"/>
          <p:cNvSpPr txBox="1"/>
          <p:nvPr/>
        </p:nvSpPr>
        <p:spPr>
          <a:xfrm>
            <a:off x="990720" y="3809880"/>
            <a:ext cx="342900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i</a:t>
            </a: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4343400" y="2666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整体认读节音（整体认读节音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打字时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无效，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才有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7" name="Picture 8" descr="c80e42ee4c9091d5b3fb95a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14479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30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350E-A817-4B46-9DB3-CEAA24D04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Picture 7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311" name="WordArt 8"/>
          <p:cNvSpPr txBox="1"/>
          <p:nvPr/>
        </p:nvSpPr>
        <p:spPr>
          <a:xfrm>
            <a:off x="990720" y="3809880"/>
            <a:ext cx="342900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u</a:t>
            </a: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2" name="WordArt 9"/>
          <p:cNvSpPr txBox="1"/>
          <p:nvPr/>
        </p:nvSpPr>
        <p:spPr>
          <a:xfrm>
            <a:off x="990720" y="762120"/>
            <a:ext cx="73152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wu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13" name="Text Box 10"/>
          <p:cNvSpPr/>
          <p:nvPr/>
        </p:nvSpPr>
        <p:spPr>
          <a:xfrm>
            <a:off x="4343400" y="2666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整体认读节音（整体认读节音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打字时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u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无效，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wu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才有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11" descr="c80e42ee4c9091d5b3fb95a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48720" y="16765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31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BD16-AC38-4E52-93E8-DFCF7CE47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4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320" name="WordArt 5"/>
          <p:cNvSpPr txBox="1"/>
          <p:nvPr/>
        </p:nvSpPr>
        <p:spPr>
          <a:xfrm>
            <a:off x="990720" y="762120"/>
            <a:ext cx="73152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yu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21" name="Text Box 8"/>
          <p:cNvSpPr/>
          <p:nvPr/>
        </p:nvSpPr>
        <p:spPr>
          <a:xfrm>
            <a:off x="4343400" y="2666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整体认读节音（整体认读节音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打字时输入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  <a:ea typeface="方正姚体"/>
              </a:rPr>
              <a:t>ü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无效，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u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才有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WordArt 9"/>
          <p:cNvSpPr txBox="1"/>
          <p:nvPr/>
        </p:nvSpPr>
        <p:spPr>
          <a:xfrm>
            <a:off x="762120" y="2666880"/>
            <a:ext cx="342900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ü</a:t>
            </a: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3" name="AutoShape 10">
            <a:hlinkClick r:id="rId4" action="ppaction://hlinksldjump"/>
          </p:cNvPr>
          <p:cNvSpPr/>
          <p:nvPr/>
        </p:nvSpPr>
        <p:spPr>
          <a:xfrm>
            <a:off x="1066680" y="3962520"/>
            <a:ext cx="3276720" cy="266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50000">
                <a:srgbClr val="cbcbcb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WordArt 11"/>
          <p:cNvSpPr txBox="1"/>
          <p:nvPr/>
        </p:nvSpPr>
        <p:spPr>
          <a:xfrm rot="1273200">
            <a:off x="2031480" y="4329000"/>
            <a:ext cx="1457640" cy="20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900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返回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900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5" name="Picture 12" descr="c80e42ee4c9091d5b3fb95a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001000" y="14479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326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4467-6784-439F-938E-BBCC945E5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WordArt 4"/>
          <p:cNvSpPr txBox="1"/>
          <p:nvPr/>
        </p:nvSpPr>
        <p:spPr>
          <a:xfrm>
            <a:off x="1523880" y="0"/>
            <a:ext cx="762012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刷洗完毕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0" name="Rectangle 6">
            <a:hlinkClick r:id="" action="ppaction://hlinkshowjump?jump=previousslide"/>
          </p:cNvPr>
          <p:cNvSpPr/>
          <p:nvPr/>
        </p:nvSpPr>
        <p:spPr>
          <a:xfrm>
            <a:off x="304920" y="762120"/>
            <a:ext cx="1066680" cy="5715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DEC1-B116-4964-82BD-751264705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 txBox="1"/>
          <p:nvPr/>
        </p:nvSpPr>
        <p:spPr>
          <a:xfrm>
            <a:off x="304920" y="2895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由于今天学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u y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笔画过多，所以将就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Arial"/>
                <a:hlinkClick r:id="rId4" action="ppaction://hlinksldjump"/>
              </a:rPr>
              <a:t>ü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y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w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再进行演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点击进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AutoShape 29">
            <a:hlinkClick r:id="rId7" action="ppaction://hlinksldjump"/>
          </p:cNvPr>
          <p:cNvSpPr/>
          <p:nvPr/>
        </p:nvSpPr>
        <p:spPr>
          <a:xfrm rot="10800000">
            <a:off x="4952880" y="4648320"/>
            <a:ext cx="1828800" cy="1295280"/>
          </a:xfrm>
          <a:custGeom>
            <a:avLst/>
            <a:gdLst>
              <a:gd name="textAreaLeft" fmla="*/ 83880 w 1828800"/>
              <a:gd name="textAreaRight" fmla="*/ 1744920 w 18288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0494" h="21600">
                <a:moveTo>
                  <a:pt x="0" y="0"/>
                </a:moveTo>
                <a:lnTo>
                  <a:pt x="30494" y="0"/>
                </a:lnTo>
                <a:lnTo>
                  <a:pt x="30494" y="21600"/>
                </a:lnTo>
                <a:lnTo>
                  <a:pt x="0" y="21600"/>
                </a:lnTo>
                <a:close/>
              </a:path>
              <a:path fill="lightenLess" w="30494" h="21600">
                <a:moveTo>
                  <a:pt x="0" y="0"/>
                </a:moveTo>
                <a:lnTo>
                  <a:pt x="30494" y="0"/>
                </a:lnTo>
                <a:lnTo>
                  <a:pt x="29094" y="1400"/>
                </a:lnTo>
                <a:lnTo>
                  <a:pt x="1400" y="1400"/>
                </a:lnTo>
                <a:close/>
              </a:path>
              <a:path fill="darken" w="30494" h="21600">
                <a:moveTo>
                  <a:pt x="30494" y="0"/>
                </a:moveTo>
                <a:lnTo>
                  <a:pt x="30494" y="21600"/>
                </a:lnTo>
                <a:lnTo>
                  <a:pt x="29094" y="20200"/>
                </a:lnTo>
                <a:lnTo>
                  <a:pt x="29094" y="1400"/>
                </a:lnTo>
                <a:close/>
              </a:path>
              <a:path fill="darkenLess" w="30494" h="21600">
                <a:moveTo>
                  <a:pt x="30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94" y="20200"/>
                </a:lnTo>
                <a:close/>
              </a:path>
              <a:path fill="lighten" w="30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94" h="21600">
                <a:moveTo>
                  <a:pt x="8241" y="7493"/>
                </a:moveTo>
                <a:lnTo>
                  <a:pt x="11748" y="7493"/>
                </a:lnTo>
                <a:lnTo>
                  <a:pt x="11748" y="12828"/>
                </a:lnTo>
                <a:cubicBezTo>
                  <a:pt x="11748" y="13751"/>
                  <a:pt x="12549" y="14482"/>
                  <a:pt x="13585" y="14482"/>
                </a:cubicBezTo>
                <a:lnTo>
                  <a:pt x="15247" y="14482"/>
                </a:lnTo>
                <a:cubicBezTo>
                  <a:pt x="16283" y="14482"/>
                  <a:pt x="17084" y="13751"/>
                  <a:pt x="17084" y="12828"/>
                </a:cubicBezTo>
                <a:lnTo>
                  <a:pt x="17084" y="7493"/>
                </a:lnTo>
                <a:lnTo>
                  <a:pt x="15247" y="7493"/>
                </a:lnTo>
                <a:lnTo>
                  <a:pt x="18755" y="3985"/>
                </a:lnTo>
                <a:lnTo>
                  <a:pt x="22428" y="7493"/>
                </a:lnTo>
                <a:lnTo>
                  <a:pt x="20591" y="7493"/>
                </a:lnTo>
                <a:lnTo>
                  <a:pt x="20591" y="12828"/>
                </a:lnTo>
                <a:cubicBezTo>
                  <a:pt x="20591" y="15596"/>
                  <a:pt x="18015" y="18155"/>
                  <a:pt x="15247" y="18155"/>
                </a:cubicBezTo>
                <a:lnTo>
                  <a:pt x="13585" y="18155"/>
                </a:lnTo>
                <a:cubicBezTo>
                  <a:pt x="10817" y="18155"/>
                  <a:pt x="8241" y="15596"/>
                  <a:pt x="8241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30">
            <a:hlinkClick r:id="rId8" action="ppaction://hlinksldjump"/>
          </p:cNvPr>
          <p:cNvSpPr/>
          <p:nvPr/>
        </p:nvSpPr>
        <p:spPr>
          <a:xfrm>
            <a:off x="6858000" y="4648320"/>
            <a:ext cx="1523880" cy="129528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1" h="21600">
                <a:moveTo>
                  <a:pt x="12706" y="3837"/>
                </a:moveTo>
                <a:lnTo>
                  <a:pt x="15282" y="6448"/>
                </a:lnTo>
                <a:lnTo>
                  <a:pt x="15282" y="4707"/>
                </a:lnTo>
                <a:lnTo>
                  <a:pt x="17057" y="4707"/>
                </a:lnTo>
                <a:lnTo>
                  <a:pt x="17057" y="8224"/>
                </a:lnTo>
                <a:lnTo>
                  <a:pt x="19668" y="10800"/>
                </a:lnTo>
                <a:lnTo>
                  <a:pt x="18015" y="10800"/>
                </a:lnTo>
                <a:lnTo>
                  <a:pt x="18015" y="17989"/>
                </a:lnTo>
                <a:lnTo>
                  <a:pt x="7396" y="17989"/>
                </a:lnTo>
                <a:lnTo>
                  <a:pt x="7396" y="10800"/>
                </a:lnTo>
                <a:lnTo>
                  <a:pt x="5743" y="10800"/>
                </a:lnTo>
                <a:close/>
              </a:path>
              <a:path fill="darkenLess" w="25411" h="21600">
                <a:moveTo>
                  <a:pt x="15282" y="6448"/>
                </a:moveTo>
                <a:lnTo>
                  <a:pt x="15282" y="4707"/>
                </a:lnTo>
                <a:lnTo>
                  <a:pt x="17057" y="4707"/>
                </a:lnTo>
                <a:lnTo>
                  <a:pt x="17057" y="8224"/>
                </a:lnTo>
                <a:close/>
              </a:path>
              <a:path fill="darkenLess" w="25411" h="21600">
                <a:moveTo>
                  <a:pt x="11783" y="14299"/>
                </a:moveTo>
                <a:lnTo>
                  <a:pt x="13628" y="14299"/>
                </a:lnTo>
                <a:lnTo>
                  <a:pt x="13628" y="17989"/>
                </a:lnTo>
                <a:lnTo>
                  <a:pt x="18015" y="17989"/>
                </a:lnTo>
                <a:lnTo>
                  <a:pt x="18015" y="10800"/>
                </a:lnTo>
                <a:lnTo>
                  <a:pt x="7396" y="10800"/>
                </a:lnTo>
                <a:lnTo>
                  <a:pt x="7396" y="17989"/>
                </a:lnTo>
                <a:lnTo>
                  <a:pt x="11783" y="1798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幼圆"/>
              </a:rPr>
              <a:t>刷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5C8C-D4FA-40F0-8ED7-FB83DBBBF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5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7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9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11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AutoShape 13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15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AutoShape 17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AutoShape 19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21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23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28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30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34"/>
          <p:cNvSpPr/>
          <p:nvPr/>
        </p:nvSpPr>
        <p:spPr>
          <a:xfrm>
            <a:off x="155520" y="46080"/>
            <a:ext cx="46674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39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41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45"/>
          <p:cNvSpPr/>
          <p:nvPr/>
        </p:nvSpPr>
        <p:spPr>
          <a:xfrm>
            <a:off x="155520" y="46080"/>
            <a:ext cx="46674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47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5" name="WordArt 49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83560"/>
          </a:xfrm>
          <a:prstGeom prst="rect">
            <a:avLst/>
          </a:prstGeom>
          <a:ln w="0">
            <a:noFill/>
          </a:ln>
        </p:spPr>
      </p:pic>
      <p:sp>
        <p:nvSpPr>
          <p:cNvPr id="1156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2B40-5A3A-4907-8202-912066961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AutoShape 4">
            <a:hlinkClick r:id="rId2" action="ppaction://hlinksldjump"/>
          </p:cNvPr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WordArt 5"/>
          <p:cNvSpPr txBox="1"/>
          <p:nvPr/>
        </p:nvSpPr>
        <p:spPr>
          <a:xfrm>
            <a:off x="2362320" y="9144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40" name="WordArt 6" descr=""/>
          <p:cNvPicPr/>
          <p:nvPr/>
        </p:nvPicPr>
        <p:blipFill>
          <a:blip r:embed="rId3"/>
          <a:stretch/>
        </p:blipFill>
        <p:spPr>
          <a:xfrm>
            <a:off x="-577800" y="222120"/>
            <a:ext cx="2641680" cy="873360"/>
          </a:xfrm>
          <a:prstGeom prst="rect">
            <a:avLst/>
          </a:prstGeom>
          <a:ln w="0">
            <a:noFill/>
          </a:ln>
        </p:spPr>
      </p:pic>
      <p:sp>
        <p:nvSpPr>
          <p:cNvPr id="1341" name="WordArt 7"/>
          <p:cNvSpPr txBox="1"/>
          <p:nvPr/>
        </p:nvSpPr>
        <p:spPr>
          <a:xfrm>
            <a:off x="2209680" y="3808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2" name="AutoShape 20">
            <a:hlinkClick r:id="" action="ppaction://hlinkshowjump?jump=firstslide"/>
          </p:cNvPr>
          <p:cNvSpPr/>
          <p:nvPr/>
        </p:nvSpPr>
        <p:spPr>
          <a:xfrm>
            <a:off x="4419720" y="1600200"/>
            <a:ext cx="457200" cy="838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WordArt 21"/>
          <p:cNvSpPr txBox="1"/>
          <p:nvPr/>
        </p:nvSpPr>
        <p:spPr>
          <a:xfrm>
            <a:off x="533520" y="152388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重播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4" name="WordArt 22"/>
          <p:cNvSpPr txBox="1"/>
          <p:nvPr/>
        </p:nvSpPr>
        <p:spPr>
          <a:xfrm>
            <a:off x="2209680" y="17524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5" name="WordArt 23"/>
          <p:cNvSpPr txBox="1"/>
          <p:nvPr/>
        </p:nvSpPr>
        <p:spPr>
          <a:xfrm>
            <a:off x="2514600" y="3505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6" name="AutoShape 24">
            <a:hlinkClick r:id="rId6"/>
          </p:cNvPr>
          <p:cNvSpPr/>
          <p:nvPr/>
        </p:nvSpPr>
        <p:spPr>
          <a:xfrm>
            <a:off x="3886200" y="2666880"/>
            <a:ext cx="1371600" cy="1219320"/>
          </a:xfrm>
          <a:custGeom>
            <a:avLst/>
            <a:gdLst/>
            <a:ahLst/>
            <a:rect l="l" t="t" r="r" b="b"/>
            <a:pathLst>
              <a:path w="1371600" h="1219200">
                <a:moveTo>
                  <a:pt x="1" y="465691"/>
                </a:moveTo>
                <a:lnTo>
                  <a:pt x="523907" y="465695"/>
                </a:lnTo>
                <a:lnTo>
                  <a:pt x="685800" y="0"/>
                </a:lnTo>
                <a:lnTo>
                  <a:pt x="847692" y="465695"/>
                </a:lnTo>
                <a:lnTo>
                  <a:pt x="1371598" y="465691"/>
                </a:lnTo>
                <a:lnTo>
                  <a:pt x="947747" y="753503"/>
                </a:lnTo>
                <a:lnTo>
                  <a:pt x="1109646" y="1219196"/>
                </a:lnTo>
                <a:lnTo>
                  <a:pt x="685800" y="931379"/>
                </a:lnTo>
                <a:lnTo>
                  <a:pt x="261953" y="1219196"/>
                </a:lnTo>
                <a:lnTo>
                  <a:pt x="423852" y="753503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WordArt 25"/>
          <p:cNvSpPr txBox="1"/>
          <p:nvPr/>
        </p:nvSpPr>
        <p:spPr>
          <a:xfrm>
            <a:off x="1981080" y="5410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8" name="WordArt 26"/>
          <p:cNvSpPr txBox="1"/>
          <p:nvPr/>
        </p:nvSpPr>
        <p:spPr>
          <a:xfrm>
            <a:off x="2514600" y="2362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49" name="WordArt 27" descr=""/>
          <p:cNvPicPr/>
          <p:nvPr/>
        </p:nvPicPr>
        <p:blipFill>
          <a:blip r:embed="rId7"/>
          <a:stretch/>
        </p:blipFill>
        <p:spPr>
          <a:xfrm>
            <a:off x="147600" y="2971800"/>
            <a:ext cx="1876320" cy="1028880"/>
          </a:xfrm>
          <a:prstGeom prst="rect">
            <a:avLst/>
          </a:prstGeom>
          <a:ln w="0">
            <a:noFill/>
          </a:ln>
        </p:spPr>
      </p:pic>
      <p:sp>
        <p:nvSpPr>
          <p:cNvPr id="1350" name="AutoShape 28"/>
          <p:cNvSpPr/>
          <p:nvPr/>
        </p:nvSpPr>
        <p:spPr>
          <a:xfrm>
            <a:off x="4114800" y="304920"/>
            <a:ext cx="1371600" cy="914400"/>
          </a:xfrm>
          <a:prstGeom prst="flowChartInternalStorag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WordArt 29"/>
          <p:cNvSpPr txBox="1"/>
          <p:nvPr/>
        </p:nvSpPr>
        <p:spPr>
          <a:xfrm>
            <a:off x="457200" y="4572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比划演示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2" name="WordArt 30"/>
          <p:cNvSpPr txBox="1"/>
          <p:nvPr/>
        </p:nvSpPr>
        <p:spPr>
          <a:xfrm>
            <a:off x="2286000" y="32004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3" name="WordArt 31"/>
          <p:cNvSpPr txBox="1"/>
          <p:nvPr/>
        </p:nvSpPr>
        <p:spPr>
          <a:xfrm>
            <a:off x="2286000" y="5867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4" name="AutoShape 33"/>
          <p:cNvSpPr/>
          <p:nvPr/>
        </p:nvSpPr>
        <p:spPr>
          <a:xfrm>
            <a:off x="4114800" y="4191120"/>
            <a:ext cx="1219320" cy="761760"/>
          </a:xfrm>
          <a:custGeom>
            <a:avLst/>
            <a:gdLst>
              <a:gd name="textAreaLeft" fmla="*/ 0 w 1219320"/>
              <a:gd name="textAreaRight" fmla="*/ 1219680 w 1219320"/>
              <a:gd name="textAreaTop" fmla="*/ 98640 h 761760"/>
              <a:gd name="textAreaBottom" fmla="*/ 663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5" name="WordArt 34" descr=""/>
          <p:cNvPicPr/>
          <p:nvPr/>
        </p:nvPicPr>
        <p:blipFill>
          <a:blip r:embed="rId10"/>
          <a:stretch/>
        </p:blipFill>
        <p:spPr>
          <a:xfrm>
            <a:off x="0" y="5257800"/>
            <a:ext cx="1778040" cy="939960"/>
          </a:xfrm>
          <a:prstGeom prst="rect">
            <a:avLst/>
          </a:prstGeom>
          <a:ln w="0">
            <a:noFill/>
          </a:ln>
        </p:spPr>
      </p:pic>
      <p:sp>
        <p:nvSpPr>
          <p:cNvPr id="1356" name="WordArt 36"/>
          <p:cNvSpPr txBox="1"/>
          <p:nvPr/>
        </p:nvSpPr>
        <p:spPr>
          <a:xfrm>
            <a:off x="2590920" y="4876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7" name="WordArt 37"/>
          <p:cNvSpPr txBox="1"/>
          <p:nvPr/>
        </p:nvSpPr>
        <p:spPr>
          <a:xfrm>
            <a:off x="2133720" y="4267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8" name="AutoShape 38"/>
          <p:cNvSpPr/>
          <p:nvPr/>
        </p:nvSpPr>
        <p:spPr>
          <a:xfrm>
            <a:off x="4114800" y="5334120"/>
            <a:ext cx="990720" cy="76176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43"/>
          <p:cNvSpPr/>
          <p:nvPr/>
        </p:nvSpPr>
        <p:spPr>
          <a:xfrm>
            <a:off x="7326000" y="2811600"/>
            <a:ext cx="7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48"/>
          <p:cNvSpPr/>
          <p:nvPr/>
        </p:nvSpPr>
        <p:spPr>
          <a:xfrm>
            <a:off x="7718400" y="38401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AutoShape 49">
            <a:hlinkClick r:id="" action="ppaction://hlinkshowjump?jump=endshow"/>
          </p:cNvPr>
          <p:cNvSpPr/>
          <p:nvPr/>
        </p:nvSpPr>
        <p:spPr>
          <a:xfrm>
            <a:off x="5562720" y="5410080"/>
            <a:ext cx="1676160" cy="1447920"/>
          </a:xfrm>
          <a:custGeom>
            <a:avLst/>
            <a:gdLst>
              <a:gd name="textAreaLeft" fmla="*/ 93600 w 1676160"/>
              <a:gd name="textAreaRight" fmla="*/ 1582560 w 16761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4" h="21600">
                <a:moveTo>
                  <a:pt x="0" y="0"/>
                </a:moveTo>
                <a:lnTo>
                  <a:pt x="25004" y="0"/>
                </a:lnTo>
                <a:lnTo>
                  <a:pt x="25004" y="21600"/>
                </a:lnTo>
                <a:lnTo>
                  <a:pt x="0" y="21600"/>
                </a:lnTo>
                <a:close/>
              </a:path>
              <a:path fill="lightenLess" w="25004" h="21600">
                <a:moveTo>
                  <a:pt x="0" y="0"/>
                </a:moveTo>
                <a:lnTo>
                  <a:pt x="25004" y="0"/>
                </a:lnTo>
                <a:lnTo>
                  <a:pt x="23604" y="1400"/>
                </a:lnTo>
                <a:lnTo>
                  <a:pt x="1400" y="1400"/>
                </a:lnTo>
                <a:close/>
              </a:path>
              <a:path fill="darken" w="25004" h="21600">
                <a:moveTo>
                  <a:pt x="25004" y="0"/>
                </a:moveTo>
                <a:lnTo>
                  <a:pt x="25004" y="21600"/>
                </a:lnTo>
                <a:lnTo>
                  <a:pt x="23604" y="20200"/>
                </a:lnTo>
                <a:lnTo>
                  <a:pt x="23604" y="1400"/>
                </a:lnTo>
                <a:close/>
              </a:path>
              <a:path fill="darkenLess" w="25004" h="21600">
                <a:moveTo>
                  <a:pt x="25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4" y="20200"/>
                </a:lnTo>
                <a:close/>
              </a:path>
              <a:path fill="lighten" w="25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4" h="21600">
                <a:moveTo>
                  <a:pt x="16001" y="10800"/>
                </a:moveTo>
                <a:lnTo>
                  <a:pt x="5496" y="17806"/>
                </a:lnTo>
                <a:lnTo>
                  <a:pt x="5496" y="3794"/>
                </a:lnTo>
                <a:close/>
              </a:path>
              <a:path fill="darken" w="25004" h="21600">
                <a:moveTo>
                  <a:pt x="17846" y="3794"/>
                </a:moveTo>
                <a:lnTo>
                  <a:pt x="17846" y="17806"/>
                </a:lnTo>
                <a:lnTo>
                  <a:pt x="19508" y="17806"/>
                </a:lnTo>
                <a:lnTo>
                  <a:pt x="19508" y="37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WordArt 50"/>
          <p:cNvSpPr txBox="1"/>
          <p:nvPr/>
        </p:nvSpPr>
        <p:spPr>
          <a:xfrm>
            <a:off x="5943600" y="5715000"/>
            <a:ext cx="914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退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63" name="AutoShape 57"/>
          <p:cNvSpPr/>
          <p:nvPr/>
        </p:nvSpPr>
        <p:spPr>
          <a:xfrm>
            <a:off x="6095880" y="2057400"/>
            <a:ext cx="2210040" cy="1676520"/>
          </a:xfrm>
          <a:custGeom>
            <a:avLst/>
            <a:gdLst>
              <a:gd name="textAreaLeft" fmla="*/ 108360 w 2210040"/>
              <a:gd name="textAreaRight" fmla="*/ 2101680 w 22100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72" h="21600">
                <a:moveTo>
                  <a:pt x="0" y="0"/>
                </a:moveTo>
                <a:lnTo>
                  <a:pt x="28472" y="0"/>
                </a:lnTo>
                <a:lnTo>
                  <a:pt x="28472" y="21600"/>
                </a:lnTo>
                <a:lnTo>
                  <a:pt x="0" y="21600"/>
                </a:lnTo>
                <a:close/>
              </a:path>
              <a:path fill="lightenLess" w="28472" h="21600">
                <a:moveTo>
                  <a:pt x="0" y="0"/>
                </a:moveTo>
                <a:lnTo>
                  <a:pt x="28472" y="0"/>
                </a:lnTo>
                <a:lnTo>
                  <a:pt x="27072" y="1400"/>
                </a:lnTo>
                <a:lnTo>
                  <a:pt x="1400" y="1400"/>
                </a:lnTo>
                <a:close/>
              </a:path>
              <a:path fill="darken" w="28472" h="21600">
                <a:moveTo>
                  <a:pt x="28472" y="0"/>
                </a:moveTo>
                <a:lnTo>
                  <a:pt x="28472" y="21600"/>
                </a:lnTo>
                <a:lnTo>
                  <a:pt x="27072" y="20200"/>
                </a:lnTo>
                <a:lnTo>
                  <a:pt x="27072" y="1400"/>
                </a:lnTo>
                <a:close/>
              </a:path>
              <a:path fill="darkenLess" w="28472" h="21600">
                <a:moveTo>
                  <a:pt x="28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72" y="20200"/>
                </a:lnTo>
                <a:close/>
              </a:path>
              <a:path fill="lighten" w="28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72" h="21600">
                <a:moveTo>
                  <a:pt x="7230" y="7301"/>
                </a:moveTo>
                <a:lnTo>
                  <a:pt x="8144" y="7301"/>
                </a:lnTo>
                <a:lnTo>
                  <a:pt x="8527" y="7667"/>
                </a:lnTo>
                <a:lnTo>
                  <a:pt x="17735" y="7667"/>
                </a:lnTo>
                <a:lnTo>
                  <a:pt x="18292" y="8224"/>
                </a:lnTo>
                <a:lnTo>
                  <a:pt x="18292" y="8772"/>
                </a:lnTo>
                <a:lnTo>
                  <a:pt x="20137" y="8772"/>
                </a:lnTo>
                <a:lnTo>
                  <a:pt x="20503" y="8224"/>
                </a:lnTo>
                <a:lnTo>
                  <a:pt x="21243" y="8224"/>
                </a:lnTo>
                <a:lnTo>
                  <a:pt x="21243" y="13376"/>
                </a:lnTo>
                <a:lnTo>
                  <a:pt x="20503" y="13376"/>
                </a:lnTo>
                <a:lnTo>
                  <a:pt x="20137" y="12828"/>
                </a:lnTo>
                <a:lnTo>
                  <a:pt x="18292" y="12828"/>
                </a:lnTo>
                <a:lnTo>
                  <a:pt x="18292" y="14107"/>
                </a:lnTo>
                <a:lnTo>
                  <a:pt x="8709" y="14107"/>
                </a:lnTo>
                <a:lnTo>
                  <a:pt x="8709" y="9877"/>
                </a:lnTo>
                <a:lnTo>
                  <a:pt x="8527" y="9877"/>
                </a:lnTo>
                <a:lnTo>
                  <a:pt x="8144" y="10243"/>
                </a:lnTo>
                <a:lnTo>
                  <a:pt x="7230" y="10243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WordArt 59"/>
          <p:cNvSpPr txBox="1"/>
          <p:nvPr/>
        </p:nvSpPr>
        <p:spPr>
          <a:xfrm>
            <a:off x="6477120" y="27432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单元复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65" name="Picture 60" descr="图片3"/>
          <p:cNvPicPr/>
          <p:nvPr/>
        </p:nvPicPr>
        <p:blipFill>
          <a:blip r:embed="rId12"/>
          <a:stretch/>
        </p:blipFill>
        <p:spPr>
          <a:xfrm>
            <a:off x="-304920" y="-142920"/>
            <a:ext cx="9753840" cy="7143840"/>
          </a:xfrm>
          <a:prstGeom prst="rect">
            <a:avLst/>
          </a:prstGeom>
          <a:ln w="0">
            <a:noFill/>
          </a:ln>
        </p:spPr>
      </p:pic>
      <p:sp>
        <p:nvSpPr>
          <p:cNvPr id="136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665B-FF38-46C7-86FD-35F7AC2F2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Line 4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5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6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9"/>
          <p:cNvSpPr/>
          <p:nvPr/>
        </p:nvSpPr>
        <p:spPr>
          <a:xfrm>
            <a:off x="30492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10"/>
          <p:cNvSpPr/>
          <p:nvPr/>
        </p:nvSpPr>
        <p:spPr>
          <a:xfrm>
            <a:off x="3886200" y="274320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11"/>
          <p:cNvSpPr/>
          <p:nvPr/>
        </p:nvSpPr>
        <p:spPr>
          <a:xfrm>
            <a:off x="3733920" y="2133720"/>
            <a:ext cx="30456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12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E217-F3DB-4DFB-9207-648BBC18C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Line 4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WordArt 5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79" name="Line 6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7"/>
          <p:cNvSpPr/>
          <p:nvPr/>
        </p:nvSpPr>
        <p:spPr>
          <a:xfrm>
            <a:off x="380880" y="6094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10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AutoShape 11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391A-6C5D-44EB-8894-9825B0FFE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Line 4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5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7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8"/>
          <p:cNvSpPr/>
          <p:nvPr/>
        </p:nvSpPr>
        <p:spPr>
          <a:xfrm>
            <a:off x="38098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9"/>
          <p:cNvSpPr/>
          <p:nvPr/>
        </p:nvSpPr>
        <p:spPr>
          <a:xfrm>
            <a:off x="4648320" y="2209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WordArt 10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93" name="Line 11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AutoShape 12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66A3-EA76-4E2E-A927-3705D9A8F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Line 4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5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7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8"/>
          <p:cNvSpPr/>
          <p:nvPr/>
        </p:nvSpPr>
        <p:spPr>
          <a:xfrm>
            <a:off x="3733920" y="2743200"/>
            <a:ext cx="91440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10"/>
          <p:cNvSpPr/>
          <p:nvPr/>
        </p:nvSpPr>
        <p:spPr>
          <a:xfrm flipH="1">
            <a:off x="3962160" y="2743200"/>
            <a:ext cx="1447560" cy="30481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AutoShape 11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480A-479A-4E85-BB48-6DFF247AF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Line 4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5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6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7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9"/>
          <p:cNvSpPr/>
          <p:nvPr/>
        </p:nvSpPr>
        <p:spPr>
          <a:xfrm>
            <a:off x="2743200" y="2743200"/>
            <a:ext cx="60948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0"/>
          <p:cNvSpPr/>
          <p:nvPr/>
        </p:nvSpPr>
        <p:spPr>
          <a:xfrm flipH="1">
            <a:off x="3352680" y="2743200"/>
            <a:ext cx="60984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"/>
          <p:cNvSpPr/>
          <p:nvPr/>
        </p:nvSpPr>
        <p:spPr>
          <a:xfrm>
            <a:off x="3962520" y="2743200"/>
            <a:ext cx="45720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2"/>
          <p:cNvSpPr/>
          <p:nvPr/>
        </p:nvSpPr>
        <p:spPr>
          <a:xfrm flipH="1">
            <a:off x="4419360" y="2743200"/>
            <a:ext cx="60948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AutoShape 15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52F8-7835-400D-AB49-21B21741A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WordArt 5"/>
          <p:cNvSpPr txBox="1"/>
          <p:nvPr/>
        </p:nvSpPr>
        <p:spPr>
          <a:xfrm>
            <a:off x="2133720" y="2286000"/>
            <a:ext cx="12952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y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yi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18" name="Line 6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0" y="1828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9"/>
          <p:cNvSpPr/>
          <p:nvPr/>
        </p:nvSpPr>
        <p:spPr>
          <a:xfrm>
            <a:off x="60199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1" name="WordArt 10" descr=""/>
          <p:cNvPicPr/>
          <p:nvPr/>
        </p:nvPicPr>
        <p:blipFill>
          <a:blip r:embed="rId2"/>
          <a:stretch/>
        </p:blipFill>
        <p:spPr>
          <a:xfrm>
            <a:off x="4110120" y="1900080"/>
            <a:ext cx="1724040" cy="4562640"/>
          </a:xfrm>
          <a:prstGeom prst="rect">
            <a:avLst/>
          </a:prstGeom>
          <a:ln w="0">
            <a:noFill/>
          </a:ln>
        </p:spPr>
      </p:pic>
      <p:sp>
        <p:nvSpPr>
          <p:cNvPr id="1422" name="WordArt 11"/>
          <p:cNvSpPr txBox="1"/>
          <p:nvPr/>
        </p:nvSpPr>
        <p:spPr>
          <a:xfrm>
            <a:off x="2895480" y="1905120"/>
            <a:ext cx="228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i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423" name="WordArt 12" descr=""/>
          <p:cNvPicPr/>
          <p:nvPr/>
        </p:nvPicPr>
        <p:blipFill>
          <a:blip r:embed="rId3"/>
          <a:stretch/>
        </p:blipFill>
        <p:spPr>
          <a:xfrm>
            <a:off x="6165720" y="1822320"/>
            <a:ext cx="965160" cy="4915080"/>
          </a:xfrm>
          <a:prstGeom prst="rect">
            <a:avLst/>
          </a:prstGeom>
          <a:ln w="0">
            <a:noFill/>
          </a:ln>
        </p:spPr>
      </p:pic>
      <p:sp>
        <p:nvSpPr>
          <p:cNvPr id="1424" name="Line 13"/>
          <p:cNvSpPr/>
          <p:nvPr/>
        </p:nvSpPr>
        <p:spPr>
          <a:xfrm>
            <a:off x="20574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4"/>
          <p:cNvSpPr/>
          <p:nvPr/>
        </p:nvSpPr>
        <p:spPr>
          <a:xfrm flipH="1">
            <a:off x="-360" y="533412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5"/>
          <p:cNvSpPr/>
          <p:nvPr/>
        </p:nvSpPr>
        <p:spPr>
          <a:xfrm flipH="1">
            <a:off x="-360" y="335268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WordArt 16"/>
          <p:cNvSpPr txBox="1"/>
          <p:nvPr/>
        </p:nvSpPr>
        <p:spPr>
          <a:xfrm>
            <a:off x="6324480" y="380988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(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无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8" name="WordArt 17"/>
          <p:cNvSpPr txBox="1"/>
          <p:nvPr/>
        </p:nvSpPr>
        <p:spPr>
          <a:xfrm>
            <a:off x="1066680" y="2286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读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29" name="Line 18"/>
          <p:cNvSpPr/>
          <p:nvPr/>
        </p:nvSpPr>
        <p:spPr>
          <a:xfrm>
            <a:off x="304920" y="0"/>
            <a:ext cx="175248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19"/>
          <p:cNvSpPr/>
          <p:nvPr/>
        </p:nvSpPr>
        <p:spPr>
          <a:xfrm>
            <a:off x="0" y="914400"/>
            <a:ext cx="2057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WordArt 20"/>
          <p:cNvSpPr txBox="1"/>
          <p:nvPr/>
        </p:nvSpPr>
        <p:spPr>
          <a:xfrm rot="1294200">
            <a:off x="151920" y="533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写法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2" name="WordArt 21"/>
          <p:cNvSpPr txBox="1"/>
          <p:nvPr/>
        </p:nvSpPr>
        <p:spPr>
          <a:xfrm>
            <a:off x="228600" y="13716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类型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3" name="WordArt 22"/>
          <p:cNvSpPr txBox="1"/>
          <p:nvPr/>
        </p:nvSpPr>
        <p:spPr>
          <a:xfrm>
            <a:off x="304920" y="2362320"/>
            <a:ext cx="16761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韵母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4" name="WordArt 23"/>
          <p:cNvSpPr txBox="1"/>
          <p:nvPr/>
        </p:nvSpPr>
        <p:spPr>
          <a:xfrm>
            <a:off x="0" y="3352680"/>
            <a:ext cx="1981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声母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5" name="WordArt 24"/>
          <p:cNvSpPr txBox="1"/>
          <p:nvPr/>
        </p:nvSpPr>
        <p:spPr>
          <a:xfrm>
            <a:off x="0" y="533412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整体认读音节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36" name="Picture 25" descr="c80e42ee4c9091d5b3fb95a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00800" y="3808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437" name="Picture 26" descr="c80e42ee4c9091d5b3fb95a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14600" y="3808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27" descr="c80e42ee4c9091d5b3fb95a2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724280" y="38088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439" name="AutoShape 28"/>
          <p:cNvSpPr/>
          <p:nvPr/>
        </p:nvSpPr>
        <p:spPr>
          <a:xfrm>
            <a:off x="8153280" y="457200"/>
            <a:ext cx="990720" cy="18288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828800"/>
              <a:gd name="textAreaBottom" fmla="*/ 1764720 h 1828800"/>
            </a:gdLst>
            <a:ahLst/>
            <a:rect l="textAreaLeft" t="textAreaTop" r="textAreaRight" b="textAreaBottom"/>
            <a:pathLst>
              <a:path w="21600" h="39865">
                <a:moveTo>
                  <a:pt x="0" y="0"/>
                </a:moveTo>
                <a:lnTo>
                  <a:pt x="21600" y="0"/>
                </a:lnTo>
                <a:lnTo>
                  <a:pt x="21600" y="39865"/>
                </a:lnTo>
                <a:lnTo>
                  <a:pt x="0" y="39865"/>
                </a:lnTo>
                <a:close/>
              </a:path>
              <a:path fill="lightenLess" w="21600" h="39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865">
                <a:moveTo>
                  <a:pt x="21600" y="0"/>
                </a:moveTo>
                <a:lnTo>
                  <a:pt x="21600" y="39865"/>
                </a:lnTo>
                <a:lnTo>
                  <a:pt x="20200" y="38465"/>
                </a:lnTo>
                <a:lnTo>
                  <a:pt x="20200" y="1400"/>
                </a:lnTo>
                <a:close/>
              </a:path>
              <a:path fill="darkenLess" w="21600" h="39865">
                <a:moveTo>
                  <a:pt x="21600" y="39865"/>
                </a:moveTo>
                <a:lnTo>
                  <a:pt x="0" y="39865"/>
                </a:lnTo>
                <a:lnTo>
                  <a:pt x="1400" y="38465"/>
                </a:lnTo>
                <a:lnTo>
                  <a:pt x="20200" y="38465"/>
                </a:lnTo>
                <a:close/>
              </a:path>
              <a:path fill="lighten" w="21600" h="39865">
                <a:moveTo>
                  <a:pt x="0" y="39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38465"/>
                </a:lnTo>
                <a:close/>
              </a:path>
              <a:path fill="darken" w="21600" h="39865">
                <a:moveTo>
                  <a:pt x="3794" y="16625"/>
                </a:moveTo>
                <a:lnTo>
                  <a:pt x="7301" y="16625"/>
                </a:lnTo>
                <a:lnTo>
                  <a:pt x="7301" y="21961"/>
                </a:lnTo>
                <a:cubicBezTo>
                  <a:pt x="7301" y="22883"/>
                  <a:pt x="8102" y="23614"/>
                  <a:pt x="9138" y="23614"/>
                </a:cubicBezTo>
                <a:lnTo>
                  <a:pt x="10800" y="23614"/>
                </a:lnTo>
                <a:cubicBezTo>
                  <a:pt x="11836" y="23614"/>
                  <a:pt x="12636" y="22883"/>
                  <a:pt x="12636" y="21961"/>
                </a:cubicBezTo>
                <a:lnTo>
                  <a:pt x="12636" y="16625"/>
                </a:lnTo>
                <a:lnTo>
                  <a:pt x="10800" y="16625"/>
                </a:lnTo>
                <a:lnTo>
                  <a:pt x="14308" y="13118"/>
                </a:lnTo>
                <a:lnTo>
                  <a:pt x="17981" y="16625"/>
                </a:lnTo>
                <a:lnTo>
                  <a:pt x="16144" y="16625"/>
                </a:lnTo>
                <a:lnTo>
                  <a:pt x="16144" y="21961"/>
                </a:lnTo>
                <a:cubicBezTo>
                  <a:pt x="16144" y="24728"/>
                  <a:pt x="13568" y="27287"/>
                  <a:pt x="10800" y="27287"/>
                </a:cubicBezTo>
                <a:lnTo>
                  <a:pt x="9138" y="27287"/>
                </a:lnTo>
                <a:cubicBezTo>
                  <a:pt x="6370" y="27287"/>
                  <a:pt x="3794" y="24728"/>
                  <a:pt x="3794" y="21961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29"/>
          <p:cNvSpPr/>
          <p:nvPr/>
        </p:nvSpPr>
        <p:spPr>
          <a:xfrm>
            <a:off x="75438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WordArt 30"/>
          <p:cNvSpPr txBox="1"/>
          <p:nvPr/>
        </p:nvSpPr>
        <p:spPr>
          <a:xfrm>
            <a:off x="7924680" y="525780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返回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2" name="WordArt 34"/>
          <p:cNvSpPr txBox="1"/>
          <p:nvPr/>
        </p:nvSpPr>
        <p:spPr>
          <a:xfrm rot="16200000">
            <a:off x="7353360" y="3542760"/>
            <a:ext cx="2438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162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162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3" name="灯片编号占位符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0D42-6296-4CB9-A421-CDC268A81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页脚占位符 3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47" name="Rectangle 4"/>
          <p:cNvSpPr/>
          <p:nvPr/>
        </p:nvSpPr>
        <p:spPr>
          <a:xfrm>
            <a:off x="-152280" y="0"/>
            <a:ext cx="929628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整体认读节音一般是指添加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声母后读音仍和韵母一样的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（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yuan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比较特殊），也就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指不用拼读即直接认读的音节，所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整体认读音节要直接读出，如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yi wu yu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AutoShape 5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5151-ED9D-4EEF-BE6D-41FF5F002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9" name="WordArt 6"/>
          <p:cNvSpPr txBox="1"/>
          <p:nvPr/>
        </p:nvSpPr>
        <p:spPr>
          <a:xfrm>
            <a:off x="1676520" y="762120"/>
            <a:ext cx="5790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请选择您要用的功能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60" name="AutoShape 7">
            <a:hlinkClick r:id="rId2" action="ppaction://hlinksldjump"/>
          </p:cNvPr>
          <p:cNvSpPr/>
          <p:nvPr/>
        </p:nvSpPr>
        <p:spPr>
          <a:xfrm>
            <a:off x="990720" y="1828800"/>
            <a:ext cx="1904760" cy="1295280"/>
          </a:xfrm>
          <a:custGeom>
            <a:avLst/>
            <a:gdLst>
              <a:gd name="textAreaLeft" fmla="*/ 83880 w 1904760"/>
              <a:gd name="textAreaRight" fmla="*/ 1820880 w 190476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1761" h="21600">
                <a:moveTo>
                  <a:pt x="0" y="0"/>
                </a:moveTo>
                <a:lnTo>
                  <a:pt x="31761" y="0"/>
                </a:lnTo>
                <a:lnTo>
                  <a:pt x="31761" y="21600"/>
                </a:lnTo>
                <a:lnTo>
                  <a:pt x="0" y="21600"/>
                </a:lnTo>
                <a:close/>
              </a:path>
              <a:path fill="lightenLess" w="31761" h="21600">
                <a:moveTo>
                  <a:pt x="0" y="0"/>
                </a:moveTo>
                <a:lnTo>
                  <a:pt x="31761" y="0"/>
                </a:lnTo>
                <a:lnTo>
                  <a:pt x="30361" y="1400"/>
                </a:lnTo>
                <a:lnTo>
                  <a:pt x="1400" y="1400"/>
                </a:lnTo>
                <a:close/>
              </a:path>
              <a:path fill="darken" w="31761" h="21600">
                <a:moveTo>
                  <a:pt x="31761" y="0"/>
                </a:moveTo>
                <a:lnTo>
                  <a:pt x="31761" y="21600"/>
                </a:lnTo>
                <a:lnTo>
                  <a:pt x="30361" y="20200"/>
                </a:lnTo>
                <a:lnTo>
                  <a:pt x="30361" y="1400"/>
                </a:lnTo>
                <a:close/>
              </a:path>
              <a:path fill="darkenLess" w="31761" h="21600">
                <a:moveTo>
                  <a:pt x="31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61" y="20200"/>
                </a:lnTo>
                <a:close/>
              </a:path>
              <a:path fill="lighten" w="31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61" h="21600">
                <a:moveTo>
                  <a:pt x="8874" y="3794"/>
                </a:moveTo>
                <a:lnTo>
                  <a:pt x="22887" y="10800"/>
                </a:lnTo>
                <a:lnTo>
                  <a:pt x="887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WordArt 8"/>
          <p:cNvSpPr txBox="1"/>
          <p:nvPr/>
        </p:nvSpPr>
        <p:spPr>
          <a:xfrm>
            <a:off x="3276000" y="2209680"/>
            <a:ext cx="1904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2" name="WordArt 9"/>
          <p:cNvSpPr txBox="1"/>
          <p:nvPr/>
        </p:nvSpPr>
        <p:spPr>
          <a:xfrm>
            <a:off x="3886200" y="2666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3" name="WordArt 10"/>
          <p:cNvSpPr txBox="1"/>
          <p:nvPr/>
        </p:nvSpPr>
        <p:spPr>
          <a:xfrm>
            <a:off x="5257800" y="1905120"/>
            <a:ext cx="914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导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64" name="AutoShape 11">
            <a:hlinkClick r:id="rId3" action="ppaction://hlinksldjump"/>
          </p:cNvPr>
          <p:cNvSpPr/>
          <p:nvPr/>
        </p:nvSpPr>
        <p:spPr>
          <a:xfrm>
            <a:off x="914400" y="3276720"/>
            <a:ext cx="1981080" cy="99036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WordArt 12"/>
          <p:cNvSpPr txBox="1"/>
          <p:nvPr/>
        </p:nvSpPr>
        <p:spPr>
          <a:xfrm rot="5400000">
            <a:off x="5410080" y="3429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学习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6" name="WordArt 13"/>
          <p:cNvSpPr txBox="1"/>
          <p:nvPr/>
        </p:nvSpPr>
        <p:spPr>
          <a:xfrm rot="10800000">
            <a:off x="5143680" y="38862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7" name="WordArt 14"/>
          <p:cNvSpPr txBox="1"/>
          <p:nvPr/>
        </p:nvSpPr>
        <p:spPr>
          <a:xfrm>
            <a:off x="3962520" y="3962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8" name="WordArt 15"/>
          <p:cNvSpPr txBox="1"/>
          <p:nvPr/>
        </p:nvSpPr>
        <p:spPr>
          <a:xfrm>
            <a:off x="5486400" y="441972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刷新</a:t>
            </a:r>
            <a:endParaRPr b="0" lang="en-US" sz="1800" spc="-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9" name="WordArt 16"/>
          <p:cNvSpPr txBox="1"/>
          <p:nvPr/>
        </p:nvSpPr>
        <p:spPr>
          <a:xfrm rot="10800000">
            <a:off x="5143680" y="49528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0" name="AutoShape 18">
            <a:hlinkClick r:id="rId8" action="ppaction://hlinksldjump"/>
          </p:cNvPr>
          <p:cNvSpPr/>
          <p:nvPr/>
        </p:nvSpPr>
        <p:spPr>
          <a:xfrm>
            <a:off x="9144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089" h="21600">
                <a:moveTo>
                  <a:pt x="24545" y="3837"/>
                </a:moveTo>
                <a:lnTo>
                  <a:pt x="27121" y="6448"/>
                </a:lnTo>
                <a:lnTo>
                  <a:pt x="27121" y="4707"/>
                </a:lnTo>
                <a:lnTo>
                  <a:pt x="28896" y="4707"/>
                </a:lnTo>
                <a:lnTo>
                  <a:pt x="28896" y="8224"/>
                </a:lnTo>
                <a:lnTo>
                  <a:pt x="31508" y="10800"/>
                </a:lnTo>
                <a:lnTo>
                  <a:pt x="29854" y="10800"/>
                </a:lnTo>
                <a:lnTo>
                  <a:pt x="29854" y="17989"/>
                </a:lnTo>
                <a:lnTo>
                  <a:pt x="19235" y="17989"/>
                </a:lnTo>
                <a:lnTo>
                  <a:pt x="19235" y="10800"/>
                </a:lnTo>
                <a:lnTo>
                  <a:pt x="17582" y="10800"/>
                </a:lnTo>
                <a:close/>
              </a:path>
              <a:path fill="darkenLess" w="49089" h="21600">
                <a:moveTo>
                  <a:pt x="27121" y="6448"/>
                </a:moveTo>
                <a:lnTo>
                  <a:pt x="27121" y="4707"/>
                </a:lnTo>
                <a:lnTo>
                  <a:pt x="28896" y="4707"/>
                </a:lnTo>
                <a:lnTo>
                  <a:pt x="28896" y="8224"/>
                </a:lnTo>
                <a:close/>
              </a:path>
              <a:path fill="darkenLess" w="49089" h="21600">
                <a:moveTo>
                  <a:pt x="23622" y="14299"/>
                </a:moveTo>
                <a:lnTo>
                  <a:pt x="25467" y="14299"/>
                </a:lnTo>
                <a:lnTo>
                  <a:pt x="25467" y="17989"/>
                </a:lnTo>
                <a:lnTo>
                  <a:pt x="29854" y="17989"/>
                </a:lnTo>
                <a:lnTo>
                  <a:pt x="29854" y="10800"/>
                </a:lnTo>
                <a:lnTo>
                  <a:pt x="19235" y="10800"/>
                </a:lnTo>
                <a:lnTo>
                  <a:pt x="19235" y="17989"/>
                </a:lnTo>
                <a:lnTo>
                  <a:pt x="23622" y="1798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WordArt 19"/>
          <p:cNvSpPr txBox="1"/>
          <p:nvPr/>
        </p:nvSpPr>
        <p:spPr>
          <a:xfrm>
            <a:off x="3962520" y="4876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2" name="AutoShape 20">
            <a:hlinkClick r:id="rId9" action="ppaction://hlinksldjump"/>
          </p:cNvPr>
          <p:cNvSpPr/>
          <p:nvPr/>
        </p:nvSpPr>
        <p:spPr>
          <a:xfrm>
            <a:off x="3429000" y="5638680"/>
            <a:ext cx="5334120" cy="990720"/>
          </a:xfrm>
          <a:custGeom>
            <a:avLst/>
            <a:gdLst>
              <a:gd name="textAreaLeft" fmla="*/ 64080 w 5334120"/>
              <a:gd name="textAreaRight" fmla="*/ 5270040 w 53341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6262" h="21600">
                <a:moveTo>
                  <a:pt x="0" y="0"/>
                </a:moveTo>
                <a:lnTo>
                  <a:pt x="116262" y="0"/>
                </a:lnTo>
                <a:lnTo>
                  <a:pt x="116262" y="21600"/>
                </a:lnTo>
                <a:lnTo>
                  <a:pt x="0" y="21600"/>
                </a:lnTo>
                <a:close/>
              </a:path>
              <a:path fill="lightenLess" w="116262" h="21600">
                <a:moveTo>
                  <a:pt x="0" y="0"/>
                </a:moveTo>
                <a:lnTo>
                  <a:pt x="116262" y="0"/>
                </a:lnTo>
                <a:lnTo>
                  <a:pt x="114862" y="1400"/>
                </a:lnTo>
                <a:lnTo>
                  <a:pt x="1400" y="1400"/>
                </a:lnTo>
                <a:close/>
              </a:path>
              <a:path fill="darken" w="116262" h="21600">
                <a:moveTo>
                  <a:pt x="116262" y="0"/>
                </a:moveTo>
                <a:lnTo>
                  <a:pt x="116262" y="21600"/>
                </a:lnTo>
                <a:lnTo>
                  <a:pt x="114862" y="20200"/>
                </a:lnTo>
                <a:lnTo>
                  <a:pt x="114862" y="1400"/>
                </a:lnTo>
                <a:close/>
              </a:path>
              <a:path fill="darkenLess" w="116262" h="21600">
                <a:moveTo>
                  <a:pt x="116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4862" y="20200"/>
                </a:lnTo>
                <a:close/>
              </a:path>
              <a:path fill="lighten" w="116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更多内容（含复习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Object 25" descr=""/>
          <p:cNvPicPr/>
          <p:nvPr/>
        </p:nvPicPr>
        <p:blipFill>
          <a:blip r:embed="rId10"/>
          <a:stretch/>
        </p:blipFill>
        <p:spPr>
          <a:xfrm>
            <a:off x="4243320" y="7543800"/>
            <a:ext cx="6096240" cy="30960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26" descr="三个兔子手拉手"/>
          <p:cNvPicPr/>
          <p:nvPr/>
        </p:nvPicPr>
        <p:blipFill>
          <a:blip r:embed="rId11"/>
          <a:stretch/>
        </p:blipFill>
        <p:spPr>
          <a:xfrm>
            <a:off x="-304920" y="-1309680"/>
            <a:ext cx="9753840" cy="9477360"/>
          </a:xfrm>
          <a:prstGeom prst="rect">
            <a:avLst/>
          </a:prstGeom>
          <a:ln w="0">
            <a:noFill/>
          </a:ln>
        </p:spPr>
      </p:pic>
      <p:sp>
        <p:nvSpPr>
          <p:cNvPr id="1175" name="灯片编号占位符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7487-7B2F-4570-A84A-6302CD1FF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页脚占位符 2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1045"/>
          <p:cNvSpPr/>
          <p:nvPr/>
        </p:nvSpPr>
        <p:spPr>
          <a:xfrm>
            <a:off x="157320" y="-1066680"/>
            <a:ext cx="36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矩形 1046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矩形 1047"/>
          <p:cNvSpPr/>
          <p:nvPr/>
        </p:nvSpPr>
        <p:spPr>
          <a:xfrm>
            <a:off x="476280" y="451800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4"/>
          <p:cNvSpPr/>
          <p:nvPr/>
        </p:nvSpPr>
        <p:spPr>
          <a:xfrm>
            <a:off x="533520" y="228600"/>
            <a:ext cx="4876560" cy="2514600"/>
          </a:xfrm>
          <a:prstGeom prst="rect">
            <a:avLst/>
          </a:prstGeom>
          <a:solidFill>
            <a:srgbClr val="ff6600">
              <a:alpha val="55000"/>
            </a:srgbClr>
          </a:solidFill>
          <a:ln w="76320">
            <a:solidFill>
              <a:srgbClr val="007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7673"/>
                </a:solidFill>
                <a:latin typeface="Arial"/>
                <a:ea typeface="方正姚体"/>
              </a:rPr>
              <a:t>导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5"/>
          <p:cNvSpPr/>
          <p:nvPr/>
        </p:nvSpPr>
        <p:spPr>
          <a:xfrm>
            <a:off x="1676520" y="3048120"/>
            <a:ext cx="5181480" cy="3581280"/>
          </a:xfrm>
          <a:prstGeom prst="rect">
            <a:avLst/>
          </a:prstGeom>
          <a:solidFill>
            <a:srgbClr val="ffff00">
              <a:alpha val="55000"/>
            </a:srgbClr>
          </a:solidFill>
          <a:ln w="38160">
            <a:solidFill>
              <a:srgbClr val="007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今天学习的是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8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拼音，分别是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韵母、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2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声母，和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方正姚体"/>
                <a:ea typeface="方正姚体"/>
                <a:hlinkClick r:id="rId1" action="ppaction://hlinksldjump"/>
              </a:rPr>
              <a:t>整体认读音节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（若不明白整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方正姚体"/>
                <a:ea typeface="方正姚体"/>
                <a:hlinkClick r:id="rId2" action="ppaction://hlinksldjump"/>
              </a:rPr>
              <a:t>体认读音节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点击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方正姚体"/>
                <a:ea typeface="方正姚体"/>
                <a:hlinkClick r:id="rId3" action="ppaction://hlinksldjump"/>
              </a:rPr>
              <a:t>整体认读音节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6">
            <a:hlinkClick r:id="rId4" action="ppaction://hlinksldjump"/>
          </p:cNvPr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灯片编号占位符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654C-0C96-4C5C-9F75-79CEFF85ECE6}" type="slidenum">
              <a:rPr b="0" lang="en-US" sz="1200" spc="-1" strike="noStrike">
                <a:solidFill>
                  <a:srgbClr val="0076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页脚占位符 7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5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569592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7" descr="《汉语拼音 2》i插图"/>
          <p:cNvPicPr/>
          <p:nvPr/>
        </p:nvPicPr>
        <p:blipFill>
          <a:blip r:embed="rId4"/>
          <a:stretch/>
        </p:blipFill>
        <p:spPr>
          <a:xfrm>
            <a:off x="457200" y="380880"/>
            <a:ext cx="4114800" cy="3124440"/>
          </a:xfrm>
          <a:prstGeom prst="rect">
            <a:avLst/>
          </a:prstGeom>
          <a:ln w="0">
            <a:noFill/>
          </a:ln>
        </p:spPr>
      </p:pic>
      <p:sp>
        <p:nvSpPr>
          <p:cNvPr id="1189" name="WordArt 8"/>
          <p:cNvSpPr txBox="1"/>
          <p:nvPr/>
        </p:nvSpPr>
        <p:spPr>
          <a:xfrm>
            <a:off x="4800600" y="685800"/>
            <a:ext cx="3162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0" name="WordArt 9"/>
          <p:cNvSpPr txBox="1"/>
          <p:nvPr/>
        </p:nvSpPr>
        <p:spPr>
          <a:xfrm>
            <a:off x="1523880" y="3352680"/>
            <a:ext cx="144792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衣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1" name="Text Box 10"/>
          <p:cNvSpPr/>
          <p:nvPr/>
        </p:nvSpPr>
        <p:spPr>
          <a:xfrm>
            <a:off x="3352680" y="3352680"/>
            <a:ext cx="4800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99"/>
                </a:solidFill>
                <a:latin typeface="zypyyb"/>
                <a:ea typeface="zypyyb"/>
              </a:rPr>
              <a:t>一件衣服，嘴巴扁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zypyyb"/>
                <a:ea typeface="zypyyb"/>
              </a:rPr>
              <a:t>iii</a:t>
            </a:r>
            <a:r>
              <a:rPr b="0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小棍头上有一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Picture 11" descr="c80e42ee4c9091d5b3fb95a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467480" y="14479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193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4D7B-47D9-4E21-856F-8AADBD0CA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Picture 6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196" name="Line 10"/>
          <p:cNvSpPr/>
          <p:nvPr/>
        </p:nvSpPr>
        <p:spPr>
          <a:xfrm>
            <a:off x="380880" y="62485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2"/>
          <p:cNvSpPr/>
          <p:nvPr/>
        </p:nvSpPr>
        <p:spPr>
          <a:xfrm>
            <a:off x="380880" y="6094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18"/>
          <p:cNvSpPr/>
          <p:nvPr/>
        </p:nvSpPr>
        <p:spPr>
          <a:xfrm>
            <a:off x="3581280" y="2666880"/>
            <a:ext cx="381240" cy="175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20"/>
          <p:cNvSpPr/>
          <p:nvPr/>
        </p:nvSpPr>
        <p:spPr>
          <a:xfrm>
            <a:off x="3581280" y="1828800"/>
            <a:ext cx="381240" cy="38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21"/>
          <p:cNvSpPr/>
          <p:nvPr/>
        </p:nvSpPr>
        <p:spPr>
          <a:xfrm>
            <a:off x="380880" y="26668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22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23"/>
          <p:cNvSpPr/>
          <p:nvPr/>
        </p:nvSpPr>
        <p:spPr>
          <a:xfrm>
            <a:off x="4114800" y="2743200"/>
            <a:ext cx="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27"/>
          <p:cNvSpPr/>
          <p:nvPr/>
        </p:nvSpPr>
        <p:spPr>
          <a:xfrm>
            <a:off x="4343400" y="3352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29"/>
          <p:cNvSpPr/>
          <p:nvPr/>
        </p:nvSpPr>
        <p:spPr>
          <a:xfrm>
            <a:off x="4038480" y="1523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1618-602A-41F1-B2E1-89013168C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4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229600" cy="569592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5" descr="《汉语拼音 2》u插图"/>
          <p:cNvPicPr/>
          <p:nvPr/>
        </p:nvPicPr>
        <p:blipFill>
          <a:blip r:embed="rId3"/>
          <a:stretch/>
        </p:blipFill>
        <p:spPr>
          <a:xfrm>
            <a:off x="457200" y="380880"/>
            <a:ext cx="4876920" cy="3200400"/>
          </a:xfrm>
          <a:prstGeom prst="rect">
            <a:avLst/>
          </a:prstGeom>
          <a:ln w="0">
            <a:noFill/>
          </a:ln>
        </p:spPr>
      </p:pic>
      <p:sp>
        <p:nvSpPr>
          <p:cNvPr id="1209" name="WordArt 6"/>
          <p:cNvSpPr txBox="1"/>
          <p:nvPr/>
        </p:nvSpPr>
        <p:spPr>
          <a:xfrm>
            <a:off x="5334120" y="1219320"/>
            <a:ext cx="20955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u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10" name="WordArt 7"/>
          <p:cNvSpPr txBox="1"/>
          <p:nvPr/>
        </p:nvSpPr>
        <p:spPr>
          <a:xfrm>
            <a:off x="1523880" y="3657600"/>
            <a:ext cx="22100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1" name="Text Box 8"/>
          <p:cNvSpPr/>
          <p:nvPr/>
        </p:nvSpPr>
        <p:spPr>
          <a:xfrm>
            <a:off x="4495680" y="4038480"/>
            <a:ext cx="3429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乌鸦啼叫，嘴巴突出，</a:t>
            </a:r>
            <a:r>
              <a:rPr b="1" lang="en-US" sz="4000" spc="-1" strike="noStrike">
                <a:solidFill>
                  <a:srgbClr val="ff3399"/>
                </a:solidFill>
                <a:latin typeface="zypyyb"/>
                <a:ea typeface="zypyyb"/>
              </a:rPr>
              <a:t>uuu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2" name="Picture 9" descr="c80e42ee4c9091d5b3fb95a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96080" y="160020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13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28B6-92AC-4573-A76B-4B59698B1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Picture 4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16" name="Line 5"/>
          <p:cNvSpPr/>
          <p:nvPr/>
        </p:nvSpPr>
        <p:spPr>
          <a:xfrm>
            <a:off x="380880" y="6094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7"/>
          <p:cNvSpPr/>
          <p:nvPr/>
        </p:nvSpPr>
        <p:spPr>
          <a:xfrm>
            <a:off x="380880" y="62485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9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WordArt 14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1" name="Line 15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20"/>
          <p:cNvSpPr/>
          <p:nvPr/>
        </p:nvSpPr>
        <p:spPr>
          <a:xfrm>
            <a:off x="3505320" y="19810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21"/>
          <p:cNvSpPr/>
          <p:nvPr/>
        </p:nvSpPr>
        <p:spPr>
          <a:xfrm>
            <a:off x="5257800" y="4114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22"/>
          <p:cNvSpPr/>
          <p:nvPr/>
        </p:nvSpPr>
        <p:spPr>
          <a:xfrm>
            <a:off x="5029200" y="2819520"/>
            <a:ext cx="0" cy="15238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23"/>
          <p:cNvSpPr/>
          <p:nvPr/>
        </p:nvSpPr>
        <p:spPr>
          <a:xfrm flipV="1">
            <a:off x="4495680" y="2438280"/>
            <a:ext cx="304920" cy="1447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24"/>
          <p:cNvSpPr/>
          <p:nvPr/>
        </p:nvSpPr>
        <p:spPr>
          <a:xfrm>
            <a:off x="4114800" y="2590920"/>
            <a:ext cx="380880" cy="12952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22A2-AF72-4289-A8E3-66BC9FA3A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Picture 6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30" name="WordArt 8"/>
          <p:cNvSpPr txBox="1"/>
          <p:nvPr/>
        </p:nvSpPr>
        <p:spPr>
          <a:xfrm>
            <a:off x="838080" y="4191120"/>
            <a:ext cx="2286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淤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1" name="Text Box 9"/>
          <p:cNvSpPr/>
          <p:nvPr/>
        </p:nvSpPr>
        <p:spPr>
          <a:xfrm>
            <a:off x="4114800" y="3962520"/>
            <a:ext cx="3809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zypyyb"/>
                <a:ea typeface="zypyyb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像兄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zypyyb"/>
                <a:ea typeface="zypyyb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头上没有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zypyyb"/>
              </a:rPr>
              <a:t>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头上有两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13" descr="《汉语拼音 2》ü插图"/>
          <p:cNvPicPr/>
          <p:nvPr/>
        </p:nvPicPr>
        <p:blipFill>
          <a:blip r:embed="rId5"/>
          <a:stretch/>
        </p:blipFill>
        <p:spPr>
          <a:xfrm>
            <a:off x="304920" y="533520"/>
            <a:ext cx="3200400" cy="3047760"/>
          </a:xfrm>
          <a:prstGeom prst="rect">
            <a:avLst/>
          </a:prstGeom>
          <a:ln w="0">
            <a:noFill/>
          </a:ln>
        </p:spPr>
      </p:pic>
      <p:sp>
        <p:nvSpPr>
          <p:cNvPr id="1233" name="WordArt 14"/>
          <p:cNvSpPr txBox="1"/>
          <p:nvPr/>
        </p:nvSpPr>
        <p:spPr>
          <a:xfrm>
            <a:off x="3505320" y="1371600"/>
            <a:ext cx="19047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6400800" y="838080"/>
            <a:ext cx="12952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小鱼吐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嘴巴也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黑体"/>
              </a:rPr>
              <a:t>üüü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16" descr="c80e42ee4c9091d5b3fb95a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297180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36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C2EA-F76F-4377-8E78-3AB0C5B01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6T21:42:37Z</dcterms:created>
  <dc:creator/>
  <dc:description/>
  <cp:keywords/>
  <dc:language>en-US</dc:language>
  <cp:lastModifiedBy>User</cp:lastModifiedBy>
  <dcterms:modified xsi:type="dcterms:W3CDTF">2016-10-05T11:55:59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  <property fmtid="{D5CDD505-2E9C-101B-9397-08002B2CF9AE}" pid="3" name="Version">
    <vt:r8>1</vt:r8>
  </property>
</Properties>
</file>